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EFE-B5AB-4BF9-80A0-1EBFD401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A72-6F72-45B8-A19D-96015C6F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8F4-EF81-426C-BCC3-9D0C720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8B6-C0AC-4AF6-A49B-27E2F91D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08E-4D90-49C1-BA2F-7D6928FA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023-027D-45C1-B789-5FED7000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2AD-5CBC-4F01-8D9E-2192A7A9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E52-BF4B-433C-8068-39DFC86A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D52-76EC-44B3-862E-F959153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A7B-4D7D-4935-8E17-E9DC9B4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E3D-A46F-413E-BCC4-61C0829B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B51-48C8-4254-9D3A-C5964246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A8C2-7210-4FE6-B46B-A186150D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760" y="2036880"/>
            <a:ext cx="8988480" cy="278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25909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aking conclusions based on patterns you 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276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conclusion you reach by inductive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886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 example that proves a statement fa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Rules for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3320" y="458640"/>
            <a:ext cx="8583480" cy="365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3392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ounterclock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657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048120"/>
            <a:ext cx="228600" cy="228600"/>
          </a:xfrm>
          <a:prstGeom prst="ellipse">
            <a:avLst/>
          </a:prstGeom>
          <a:solidFill>
            <a:srgbClr val="e81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763120" cy="2921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45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762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op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ying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533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14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edictions and Counter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9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7652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t doesn’t have sides of equ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6360" y="152280"/>
            <a:ext cx="7999560" cy="670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2057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tart with 4 and add 5 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23623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tart with 3 and multiply by 3 repeate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352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tart with 1,1. Then each number is the sum of the previous two numb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4290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tart with 1 and tehn add 2 repeatedly.  9,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4197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029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Incorrect; 8 and  8  are not oppo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6019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511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943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06:33Z</dcterms:created>
  <dc:creator>Susannah Graham</dc:creator>
  <dc:description/>
  <dc:language>en-US</dc:language>
  <cp:lastModifiedBy>Graham</cp:lastModifiedBy>
  <dcterms:modified xsi:type="dcterms:W3CDTF">2011-08-18T12:58:02Z</dcterms:modified>
  <cp:revision>3</cp:revision>
  <dc:subject/>
  <dc:title>Lesson 5.7 Inductive Reasoning</dc:title>
</cp:coreProperties>
</file>